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1C62-EDF4-4A14-87C1-2500396152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5662-6C78-451B-9D87-4DD1850E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CB07-5B7E-452D-BA68-FFC99D01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02F59-E158-4C77-9482-CB1CF5C59A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D9387-60B0-4DEA-9208-721705C9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59460-3769-473A-8334-A4F03139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6481F-DC7A-4C12-BF5D-5126E210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6687-D1D4-4BF8-86E7-0C9AF298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A2BC-95D6-4ED6-A1FE-BBCAE510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F73EB-C8FF-4562-94F1-694A47E1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6B988-8E44-4A8E-BD91-AA066992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5A09-469C-4A34-A2F4-6F74A13B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730B-93F8-4312-A206-A61185314C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diagram in exercise 1 and explain how hydro power is p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read the text and draw four simple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whether your diagrams were correct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17Z</dcterms:modified>
  <cp:revision>29</cp:revision>
  <dc:subject/>
  <dc:title>  </dc:title>
</cp:coreProperties>
</file>